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4B9-5639-4827-896C-53FB491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35D-A8EE-46F4-991A-D660023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98F-AAE6-4F0D-9F38-597A295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626-2B9B-43DC-9B70-FB9E2666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B58C-FA76-4D0B-9443-E2EBE6B0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B6A-3235-4F14-835A-6CEDB512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E17-4E0D-4726-992C-5C3B6C0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737B-2F20-470A-971E-4EE46B8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18F9-E6EF-439C-997B-D737B2EA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076-B381-4633-AF87-13E1EDFD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B62-CDAF-4A03-9ED6-FA478CE0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F1C-FDF9-4FDA-B31A-ABF7F6CD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E9F-2C37-40D7-A1A6-C0FBF68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4DEE-A97B-4066-9075-916AAAF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512-01B5-4E5B-950F-F0B49DC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D11C-0784-40FA-BA9B-115C6203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F2A-6D96-458A-B496-D90902FA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541-DAB0-420E-AE1E-14A1E63C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79-51E8-4506-8557-B534AA9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3B1-E373-4CCB-8160-5932456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334-28AB-407D-9E6B-7C85001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7A4-4DE0-407D-A10F-1ED3FB1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B7E-AFCD-43A4-893E-49EDD64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D88-316B-4135-BC69-3F01B114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56C1-C5A1-49EB-BBA6-822E9A489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0E2C-BAC2-4116-85D7-8B8A30B9B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to “deal” with or avoid cyber bully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 Cald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DB6C-97AD-4538-8B54-6A389A769F22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The purpose is to help stop cyber bullying at the imiddle school and how to deal with the situation, if it happens to them. Ill be telling about a student who is getting bullied through their their netbook on a chatting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by having people watch my video and having it not be bo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video will be different because I don’t think I have seen anyone do a cyber bullying video yet, so it will being inter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12Z</dcterms:created>
  <dc:creator/>
  <dc:description/>
  <dc:language>en-US</dc:language>
  <cp:lastModifiedBy>City School</cp:lastModifiedBy>
  <dcterms:modified xsi:type="dcterms:W3CDTF">2013-02-20T19:03:29Z</dcterms:modified>
  <cp:revision>39</cp:revision>
  <dc:subject/>
  <dc:title>The Pitch-Then-Plan Business Planning Template</dc:title>
</cp:coreProperties>
</file>